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A60-ECA7-433B-8E92-D6C51785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1CA-708C-4225-A3B9-8C91EB5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74B-FFD1-43C7-A12F-136FDDA2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5EF-2392-40CD-BE38-13F9F639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630-47FB-4BFE-B416-638EB99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D24-266F-4729-8273-2169A25A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DB9-FE34-4F69-8ABF-0AFC43B8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3C6-2690-41C3-B431-6799458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FCE-F20C-48C8-93DC-8A41FE2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55D-B08D-440E-A488-5D07101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E0F-C847-4007-9F04-8BF849F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950-8571-4F8A-B687-5EDA067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6483-6E47-444F-B2C7-7A958A4C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Systems of Equations and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-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5y = -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+ 3y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each metho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MUST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Equ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(x, y) where the two lines interse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Inequa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intersection regio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here the two lines cros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6"/>
          <p:cNvCxnSpPr/>
          <p:nvPr/>
        </p:nvCxnSpPr>
        <p:spPr>
          <a:xfrm>
            <a:off x="4419360" y="-360"/>
            <a:ext cx="1080" cy="708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sure PLOTS is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 in eq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-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NTER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324480" y="3352680"/>
            <a:ext cx="2819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 = -4x +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 = ½ 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y = ½ x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n calculato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026040" y="2076480"/>
            <a:ext cx="212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Quadrant is it i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 = -4x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6x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1:28:28Z</dcterms:created>
  <dc:creator>Sharon Fieldman</dc:creator>
  <dc:description/>
  <dc:language>en-US</dc:language>
  <cp:lastModifiedBy>sfieldman</cp:lastModifiedBy>
  <cp:lastPrinted>2010-05-25T09:36:07Z</cp:lastPrinted>
  <dcterms:modified xsi:type="dcterms:W3CDTF">2011-05-16T14:49:53Z</dcterms:modified>
  <cp:revision>17</cp:revision>
  <dc:subject/>
  <dc:title>Goal 4.03: Systems of Equations</dc:title>
</cp:coreProperties>
</file>